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5EE-D149-4E88-85FC-D551AB4A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85D-082A-476B-9EEC-29C1C3B8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A5A-ADAB-4F66-8E98-A8C4AC91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826-351D-4E96-93CC-D6D4243F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48B-681C-45C6-807A-412BB31C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F52-BACD-4032-8548-82B26772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657-18AC-4B05-8D05-9E47F4D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8AA-EC92-402D-81F6-823A3EC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117-06E1-4203-8802-091436D8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31D-E3C1-4609-9AD1-34A5FC8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3D8-C516-4F90-8055-123963A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ABC-B6CA-4C99-AAA4-4FF055C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08C2-4293-4380-87F5-F69241406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rain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thunder.wav" TargetMode="External"/><Relationship Id="rId4" Type="http://schemas.openxmlformats.org/officeDocument/2006/relationships/hyperlink" Target="file:///tmp/home/.config/libreoffice/4/user/gallery/ElectricCuckoo.wav" TargetMode="External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rain.wav" TargetMode="External"/><Relationship Id="rId4" Type="http://schemas.openxmlformats.org/officeDocument/2006/relationships/image" Target="../media/image16.png"/><Relationship Id="rId5" Type="http://schemas.openxmlformats.org/officeDocument/2006/relationships/hyperlink" Target="file:///tmp/home/.config/libreoffice/4/user/gallery/ElectricCuckoo.wav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thunder.wav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TORNADO2.wav" TargetMode="External"/><Relationship Id="rId4" Type="http://schemas.openxmlformats.org/officeDocument/2006/relationships/image" Target="../media/image17.png"/><Relationship Id="rId5" Type="http://schemas.openxmlformats.org/officeDocument/2006/relationships/hyperlink" Target="file:///tmp/home/.config/libreoffice/4/user/gallery/ElectricCuckoo.wav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rain.wav" TargetMode="External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rain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wind02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wind02.wav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wind02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ORNADO2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TORNADO2.wav" TargetMode="External"/><Relationship Id="rId3" Type="http://schemas.openxmlformats.org/officeDocument/2006/relationships/image" Target="../media/image7.png"/><Relationship Id="rId4" Type="http://schemas.openxmlformats.org/officeDocument/2006/relationships/hyperlink" Target="file:///tmp/home/.config/libreoffice/4/user/gallery/TORNADO2.wav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hunder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thunder.wav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tmp/home/.config/libreoffice/4/user/gallery/thunder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ind02.wav" TargetMode="External"/><Relationship Id="rId5" Type="http://schemas.openxmlformats.org/officeDocument/2006/relationships/hyperlink" Target="file:///tmp/home/.config/libreoffice/4/user/gallery/ElectricCuckoo.wav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523880"/>
            <a:ext cx="58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’s that  sound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324480" y="51814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2895480"/>
            <a:ext cx="2895840" cy="289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9548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2057400" y="4572000"/>
            <a:ext cx="5791320" cy="1905120"/>
          </a:xfrm>
          <a:prstGeom prst="rightArrow">
            <a:avLst>
              <a:gd name="adj1" fmla="val 50000"/>
              <a:gd name="adj2" fmla="val 7599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90680" y="380880"/>
            <a:ext cx="52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that sou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3"/>
          </p:cNvPr>
          <p:cNvSpPr/>
          <p:nvPr/>
        </p:nvSpPr>
        <p:spPr>
          <a:xfrm>
            <a:off x="1447920" y="228600"/>
            <a:ext cx="6553080" cy="3962520"/>
          </a:xfrm>
          <a:custGeom>
            <a:avLst/>
            <a:gdLst>
              <a:gd name="textAreaLeft" fmla="*/ 256680 w 6553080"/>
              <a:gd name="textAreaRight" fmla="*/ 6296400 w 655308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35720" h="21600">
                <a:moveTo>
                  <a:pt x="0" y="0"/>
                </a:moveTo>
                <a:lnTo>
                  <a:pt x="35720" y="0"/>
                </a:lnTo>
                <a:lnTo>
                  <a:pt x="35720" y="21600"/>
                </a:lnTo>
                <a:lnTo>
                  <a:pt x="0" y="21600"/>
                </a:lnTo>
                <a:close/>
              </a:path>
              <a:path fill="lightenLess" w="35720" h="21600">
                <a:moveTo>
                  <a:pt x="0" y="0"/>
                </a:moveTo>
                <a:lnTo>
                  <a:pt x="35720" y="0"/>
                </a:lnTo>
                <a:lnTo>
                  <a:pt x="34320" y="1400"/>
                </a:lnTo>
                <a:lnTo>
                  <a:pt x="1400" y="1400"/>
                </a:lnTo>
                <a:close/>
              </a:path>
              <a:path fill="darken" w="35720" h="21600">
                <a:moveTo>
                  <a:pt x="35720" y="0"/>
                </a:moveTo>
                <a:lnTo>
                  <a:pt x="35720" y="21600"/>
                </a:lnTo>
                <a:lnTo>
                  <a:pt x="34320" y="20200"/>
                </a:lnTo>
                <a:lnTo>
                  <a:pt x="34320" y="1400"/>
                </a:lnTo>
                <a:close/>
              </a:path>
              <a:path fill="darkenLess" w="35720" h="21600">
                <a:moveTo>
                  <a:pt x="35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20" y="20200"/>
                </a:lnTo>
                <a:close/>
              </a:path>
              <a:path fill="lighten" w="35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400800" y="4191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9548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057400" y="4572000"/>
            <a:ext cx="5791320" cy="1905120"/>
          </a:xfrm>
          <a:prstGeom prst="rightArrow">
            <a:avLst>
              <a:gd name="adj1" fmla="val 50000"/>
              <a:gd name="adj2" fmla="val 7599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90680" y="380880"/>
            <a:ext cx="52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that sou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/>
          </p:cNvPr>
          <p:cNvSpPr/>
          <p:nvPr/>
        </p:nvSpPr>
        <p:spPr>
          <a:xfrm>
            <a:off x="1523880" y="228600"/>
            <a:ext cx="6553440" cy="3962520"/>
          </a:xfrm>
          <a:custGeom>
            <a:avLst/>
            <a:gdLst>
              <a:gd name="textAreaLeft" fmla="*/ 256680 w 6553440"/>
              <a:gd name="textAreaRight" fmla="*/ 6296760 w 655344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35722" h="21600">
                <a:moveTo>
                  <a:pt x="0" y="0"/>
                </a:moveTo>
                <a:lnTo>
                  <a:pt x="35722" y="0"/>
                </a:lnTo>
                <a:lnTo>
                  <a:pt x="35722" y="21600"/>
                </a:lnTo>
                <a:lnTo>
                  <a:pt x="0" y="21600"/>
                </a:lnTo>
                <a:close/>
              </a:path>
              <a:path fill="lightenLess" w="35722" h="21600">
                <a:moveTo>
                  <a:pt x="0" y="0"/>
                </a:moveTo>
                <a:lnTo>
                  <a:pt x="35722" y="0"/>
                </a:lnTo>
                <a:lnTo>
                  <a:pt x="34322" y="1400"/>
                </a:lnTo>
                <a:lnTo>
                  <a:pt x="1400" y="1400"/>
                </a:lnTo>
                <a:close/>
              </a:path>
              <a:path fill="darken" w="35722" h="21600">
                <a:moveTo>
                  <a:pt x="35722" y="0"/>
                </a:moveTo>
                <a:lnTo>
                  <a:pt x="35722" y="21600"/>
                </a:lnTo>
                <a:lnTo>
                  <a:pt x="34322" y="20200"/>
                </a:lnTo>
                <a:lnTo>
                  <a:pt x="34322" y="1400"/>
                </a:lnTo>
                <a:close/>
              </a:path>
              <a:path fill="darkenLess" w="35722" h="21600">
                <a:moveTo>
                  <a:pt x="3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22" y="20200"/>
                </a:lnTo>
                <a:close/>
              </a:path>
              <a:path fill="lighten" w="3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4191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4343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9548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2057400" y="4572000"/>
            <a:ext cx="5791320" cy="1905120"/>
          </a:xfrm>
          <a:prstGeom prst="rightArrow">
            <a:avLst>
              <a:gd name="adj1" fmla="val 50000"/>
              <a:gd name="adj2" fmla="val 7599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90680" y="380880"/>
            <a:ext cx="52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that sou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/>
          </p:cNvPr>
          <p:cNvSpPr/>
          <p:nvPr/>
        </p:nvSpPr>
        <p:spPr>
          <a:xfrm>
            <a:off x="1447920" y="228600"/>
            <a:ext cx="6553080" cy="3962520"/>
          </a:xfrm>
          <a:custGeom>
            <a:avLst/>
            <a:gdLst>
              <a:gd name="textAreaLeft" fmla="*/ 256680 w 6553080"/>
              <a:gd name="textAreaRight" fmla="*/ 6296400 w 655308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35720" h="21600">
                <a:moveTo>
                  <a:pt x="0" y="0"/>
                </a:moveTo>
                <a:lnTo>
                  <a:pt x="35720" y="0"/>
                </a:lnTo>
                <a:lnTo>
                  <a:pt x="35720" y="21600"/>
                </a:lnTo>
                <a:lnTo>
                  <a:pt x="0" y="21600"/>
                </a:lnTo>
                <a:close/>
              </a:path>
              <a:path fill="lightenLess" w="35720" h="21600">
                <a:moveTo>
                  <a:pt x="0" y="0"/>
                </a:moveTo>
                <a:lnTo>
                  <a:pt x="35720" y="0"/>
                </a:lnTo>
                <a:lnTo>
                  <a:pt x="34320" y="1400"/>
                </a:lnTo>
                <a:lnTo>
                  <a:pt x="1400" y="1400"/>
                </a:lnTo>
                <a:close/>
              </a:path>
              <a:path fill="darken" w="35720" h="21600">
                <a:moveTo>
                  <a:pt x="35720" y="0"/>
                </a:moveTo>
                <a:lnTo>
                  <a:pt x="35720" y="21600"/>
                </a:lnTo>
                <a:lnTo>
                  <a:pt x="34320" y="20200"/>
                </a:lnTo>
                <a:lnTo>
                  <a:pt x="34320" y="1400"/>
                </a:lnTo>
                <a:close/>
              </a:path>
              <a:path fill="darkenLess" w="35720" h="21600">
                <a:moveTo>
                  <a:pt x="35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20" y="20200"/>
                </a:lnTo>
                <a:close/>
              </a:path>
              <a:path fill="lighten" w="35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572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400800" y="41911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9548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2057400" y="4572000"/>
            <a:ext cx="5791320" cy="1905120"/>
          </a:xfrm>
          <a:prstGeom prst="rightArrow">
            <a:avLst>
              <a:gd name="adj1" fmla="val 50000"/>
              <a:gd name="adj2" fmla="val 7599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90680" y="380880"/>
            <a:ext cx="52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that sou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/>
          </p:cNvPr>
          <p:cNvSpPr/>
          <p:nvPr/>
        </p:nvSpPr>
        <p:spPr>
          <a:xfrm>
            <a:off x="1447920" y="228600"/>
            <a:ext cx="6553080" cy="3962520"/>
          </a:xfrm>
          <a:custGeom>
            <a:avLst/>
            <a:gdLst>
              <a:gd name="textAreaLeft" fmla="*/ 256680 w 6553080"/>
              <a:gd name="textAreaRight" fmla="*/ 6296400 w 655308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35720" h="21600">
                <a:moveTo>
                  <a:pt x="0" y="0"/>
                </a:moveTo>
                <a:lnTo>
                  <a:pt x="35720" y="0"/>
                </a:lnTo>
                <a:lnTo>
                  <a:pt x="35720" y="21600"/>
                </a:lnTo>
                <a:lnTo>
                  <a:pt x="0" y="21600"/>
                </a:lnTo>
                <a:close/>
              </a:path>
              <a:path fill="lightenLess" w="35720" h="21600">
                <a:moveTo>
                  <a:pt x="0" y="0"/>
                </a:moveTo>
                <a:lnTo>
                  <a:pt x="35720" y="0"/>
                </a:lnTo>
                <a:lnTo>
                  <a:pt x="34320" y="1400"/>
                </a:lnTo>
                <a:lnTo>
                  <a:pt x="1400" y="1400"/>
                </a:lnTo>
                <a:close/>
              </a:path>
              <a:path fill="darken" w="35720" h="21600">
                <a:moveTo>
                  <a:pt x="35720" y="0"/>
                </a:moveTo>
                <a:lnTo>
                  <a:pt x="35720" y="21600"/>
                </a:lnTo>
                <a:lnTo>
                  <a:pt x="34320" y="20200"/>
                </a:lnTo>
                <a:lnTo>
                  <a:pt x="34320" y="1400"/>
                </a:lnTo>
                <a:close/>
              </a:path>
              <a:path fill="darkenLess" w="35720" h="21600">
                <a:moveTo>
                  <a:pt x="35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20" y="20200"/>
                </a:lnTo>
                <a:close/>
              </a:path>
              <a:path fill="lighten" w="35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4038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4267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19520" y="533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63400" y="3886200"/>
            <a:ext cx="386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ou did i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840" y="1676520"/>
            <a:ext cx="534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sounds like rai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049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26668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23880"/>
            <a:ext cx="58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’s that  sound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324480" y="51814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2514600"/>
            <a:ext cx="358164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676520"/>
            <a:ext cx="76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sounds like a windy da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1485720" cy="14857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304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2819520"/>
            <a:ext cx="3276720" cy="327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523880"/>
            <a:ext cx="58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’s that  sound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324480" y="51814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2438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676520"/>
            <a:ext cx="816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sounds like a tornado dril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1485720" cy="14857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228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2743200"/>
            <a:ext cx="3505320" cy="350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1523880"/>
            <a:ext cx="58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’s that  sound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6324480" y="51814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2438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840" y="1676520"/>
            <a:ext cx="84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sounds like a thunderstorm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1485720" cy="14857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2514600" cy="13716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286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2666880"/>
            <a:ext cx="3809880" cy="38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705720" y="4495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90680" y="380880"/>
            <a:ext cx="52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that sou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/>
          </p:cNvPr>
          <p:cNvSpPr/>
          <p:nvPr/>
        </p:nvSpPr>
        <p:spPr>
          <a:xfrm>
            <a:off x="1447920" y="228600"/>
            <a:ext cx="6553080" cy="3962520"/>
          </a:xfrm>
          <a:custGeom>
            <a:avLst/>
            <a:gdLst>
              <a:gd name="textAreaLeft" fmla="*/ 256680 w 6553080"/>
              <a:gd name="textAreaRight" fmla="*/ 6296400 w 655308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35720" h="21600">
                <a:moveTo>
                  <a:pt x="0" y="0"/>
                </a:moveTo>
                <a:lnTo>
                  <a:pt x="35720" y="0"/>
                </a:lnTo>
                <a:lnTo>
                  <a:pt x="35720" y="21600"/>
                </a:lnTo>
                <a:lnTo>
                  <a:pt x="0" y="21600"/>
                </a:lnTo>
                <a:close/>
              </a:path>
              <a:path fill="lightenLess" w="35720" h="21600">
                <a:moveTo>
                  <a:pt x="0" y="0"/>
                </a:moveTo>
                <a:lnTo>
                  <a:pt x="35720" y="0"/>
                </a:lnTo>
                <a:lnTo>
                  <a:pt x="34320" y="1400"/>
                </a:lnTo>
                <a:lnTo>
                  <a:pt x="1400" y="1400"/>
                </a:lnTo>
                <a:close/>
              </a:path>
              <a:path fill="darken" w="35720" h="21600">
                <a:moveTo>
                  <a:pt x="35720" y="0"/>
                </a:moveTo>
                <a:lnTo>
                  <a:pt x="35720" y="21600"/>
                </a:lnTo>
                <a:lnTo>
                  <a:pt x="34320" y="20200"/>
                </a:lnTo>
                <a:lnTo>
                  <a:pt x="34320" y="1400"/>
                </a:lnTo>
                <a:close/>
              </a:path>
              <a:path fill="darkenLess" w="35720" h="21600">
                <a:moveTo>
                  <a:pt x="35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20" y="20200"/>
                </a:lnTo>
                <a:close/>
              </a:path>
              <a:path fill="lighten" w="35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9:14:02Z</dcterms:created>
  <dc:creator>Carol Shockley</dc:creator>
  <dc:description/>
  <dc:language>en-US</dc:language>
  <cp:lastModifiedBy>Carol Shockley</cp:lastModifiedBy>
  <dcterms:modified xsi:type="dcterms:W3CDTF">2003-03-26T19:48:35Z</dcterms:modified>
  <cp:revision>6</cp:revision>
  <dc:subject/>
  <dc:title>PowerPoint Presentation</dc:title>
</cp:coreProperties>
</file>